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8D3AE-2305-49CD-94F1-19B2F9C70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3EB6B-28BC-4852-AED6-1066AFBD8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25FF9-A975-49E0-8369-8F56CF6C1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8EECB-2AB7-4C58-954D-4AD7EAFBC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B4A44-30E1-4402-B223-6930F9151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65B44-0DBA-46FB-8857-3BD6DECC3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A7E62-B4B0-4A18-B1D5-E06DF7702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AFE76-8A2C-4391-BF0B-E662B6683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0B19E-2E61-455D-AB4E-4DD07AD63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C570E-69DE-495B-B0EA-00138F57A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6ADE0-A155-474A-88FE-10B7D98C0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A0053-E7A1-4304-8931-C83678EA8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8B49C-C279-4A77-AAC1-41D193E36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62EE4-7737-4C5A-84F1-526AB9C2B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FC27D-AAB5-4C9E-B181-7A0AB62FB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BA17C-3B56-4B15-9B4D-7E526ACF6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6A3BB-1727-401C-9DC1-0ABD8EC71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BB545-EBB4-4AAF-9009-53D182415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D473C-95DE-402B-A400-FA0CC7E3E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BA24F-CE38-4426-A3B2-274DFB285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74BA1-4B51-432D-B59A-14AFEEE8D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BACFA-3BCC-46CD-8C25-9C8677698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08DB8-4610-47FE-B0F1-F88080276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D427-7984-4C32-BE9E-978FB89B8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2649-974D-4657-AF38-87721D7947BC}"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F71E-96C1-4097-A5DF-A41DED6EF5A5}"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68360" y="471600"/>
            <a:ext cx="835164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yecciones Financier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mito más grande en el tema de emprendedores: No hace falta hacer proyecciones financieras porque de todas formas no le vas a atinar a la realidad.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hay nada más falso o más peligroso para un emprendedor. Iniciar un negocio sin tener una idea clara de cuanto puede vender, cuanto puede ganar, pero más importante cuanto dinero cuesta y cuando se necesita ese dinero es sinónimo de fracaso.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s proyecciones financieras resuelven esos problemas. Las proyecciones son un trabajo pesado, pero muy útil, para lo cual se recomienda usar algún software, como el incluido en este canal de emprendedores, y/o contratar a pedirle a un contador que nos apoye.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s proyecciones financieras se hacen en función de los Estados Pro forma, los cuales incluyen el balance inicial, el estado de resultados, y el estado de origen y aplicación de recursos ó flujo de efectiv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1042920" y="2205000"/>
            <a:ext cx="7199280" cy="3608280"/>
          </a:xfrm>
          <a:prstGeom prst="rect">
            <a:avLst/>
          </a:prstGeom>
          <a:ln w="0">
            <a:noFill/>
          </a:ln>
        </p:spPr>
      </p:pic>
      <p:sp>
        <p:nvSpPr>
          <p:cNvPr id="158" name="Rectangle 5"/>
          <p:cNvSpPr/>
          <p:nvPr/>
        </p:nvSpPr>
        <p:spPr>
          <a:xfrm>
            <a:off x="987120" y="475560"/>
            <a:ext cx="375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Este diagrama explica la relació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4500720" y="2652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0" name="Rectangle 6"/>
          <p:cNvSpPr/>
          <p:nvPr/>
        </p:nvSpPr>
        <p:spPr>
          <a:xfrm>
            <a:off x="539640" y="190800"/>
            <a:ext cx="8280360" cy="4939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MX" sz="1800" spc="-1" strike="noStrike">
                <a:solidFill>
                  <a:srgbClr val="ffffff"/>
                </a:solidFill>
                <a:latin typeface="Arial"/>
                <a:ea typeface="Times New Roman"/>
              </a:rPr>
              <a:t>El balance inicial de activos nos permite iniciar ventas, a las ventas le quitamos los costos para obtener las utilidades netas, con las que calculamos el flujo de efectivo, el cual forma parte del balance final. El balance final se convierte en el balance inicial del siguiente periodo.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Elementos críticos: Flujo de efectivo y las vent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u="sng">
                <a:solidFill>
                  <a:srgbClr val="ffffff"/>
                </a:solidFill>
                <a:uFillTx/>
                <a:latin typeface="Arial"/>
                <a:ea typeface="Times New Roman"/>
              </a:rPr>
              <a:t>Efectivo:</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Lo más importante de las proyecciones financieras es el flujo de efectivo mensual, ya que este nos indica si nos sobra o nos falta gasolina (efectivo) para continuar operaciones. Hay empresas que pueden operar toda su vida con pérdidas en el Estado de Resultados, pero con flujo de efectivo positivo, pero hay empresas que quiebran teniendo una utilidad enorme pero un flujo de efectivo negativo. El efectivo y la utilidad son cosas completamente distinta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El flujo de efectivo se debe proyectar y una vez que iniciemos operaciones se debe de ir ajustando. Esto nos dará una fotografía de en que meses necesitaremos levantar recursos y en que meses podremos ser sostenibles.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24000" y="541440"/>
            <a:ext cx="849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u="sng">
                <a:solidFill>
                  <a:srgbClr val="ffffff"/>
                </a:solidFill>
                <a:uFillTx/>
                <a:latin typeface="Arial"/>
              </a:rPr>
              <a:t>Vent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 más difícil de toda la proyección es calcular cuales serán las ventas mensuales. Las ventas responden a elementos de la demanda, como el tamaño del mercado, la participación de mercado, el precio del producto, la inflación, la distribución, el mercadeo, promoción, etc, y a elementos de la oferta, como la capacidad instalada y la oferta de competidores y sustituto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Recomendacione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 más recomendable para alguien que no tiene conocimientos sobre proyecciones financieras es que haga las siguientes tres cos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mar un curso en su universidad, o buscar cursos cortos con otros proveedore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sar el archivo de Excel en las herramientas de este canal.</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tratar y/o solicitar apoyo a un conocido experto en contabilidad y finanzas para que revise los datos y los estados pro forma.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25:29Z</dcterms:created>
  <dc:creator> Marìa Paula Roteta</dc:creator>
  <dc:description/>
  <dc:language>en-US</dc:language>
  <cp:lastModifiedBy>WinuE</cp:lastModifiedBy>
  <dcterms:modified xsi:type="dcterms:W3CDTF">2010-09-19T22:01:28Z</dcterms:modified>
  <cp:revision>1</cp:revision>
  <dc:subject/>
  <dc:title>Diapositiva 1</dc:title>
</cp:coreProperties>
</file>